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1268-5408-4724-9DF6-A6AB9BA42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B7FE-BB20-412D-8F46-40AB71A0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7295-92D6-4712-87BA-2E7D2FBD0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E5EE-8227-4ABC-BE89-5869A0D9A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F19A8-792A-451E-82CB-B809A6448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D8F4D-C185-43F4-B62A-32ABD069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BBCA-7647-4415-855B-63063CB4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EE63-5656-4730-9AEF-87E7DB69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D291-F64C-4563-AEC5-8B043E92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4CC5-A925-4F1F-B52D-3EFD5500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30D3-F5AD-49B2-AC47-123C74A0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D39C-9725-4508-B0AB-3FB1FB94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812A8-16D0-4F3C-B311-6C79E001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F9656-4F48-494F-AB11-24FA2E19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3C1D-F962-43F2-B28D-59D05B19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8E0D-F5FF-4FD5-B55C-EA67D3F7D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7369-8EA0-4705-8DBD-07C0A613E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971F-D724-415A-BA75-B6B00BE5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8662-0116-42F8-BCE0-F637E42F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FC60-5945-4A09-BCA1-AB99DEF2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6D0A-9029-4AAF-8872-321BA5D5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5902-1738-4350-9668-38383AA6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C525-8C35-4A6F-8D86-04827675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574B-14E6-4F87-BF93-0DD4D495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50000">
                  <a:srgbClr val="dc893e"/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CE2A-660F-4DEC-B488-6F5455151152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50000">
                  <a:srgbClr val="dc893e"/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1EA1-EC90-4808-80DB-E960E821005E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76690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Verdana"/>
              </a:rPr>
              <a:t>SONÁTOVÁ FORMA</a:t>
            </a:r>
            <a:br>
              <a:rPr sz="8000"/>
            </a:br>
            <a:r>
              <a:rPr b="1" lang="en-US" sz="5400" spc="-1" strike="noStrike">
                <a:solidFill>
                  <a:srgbClr val="66ff66"/>
                </a:solidFill>
                <a:latin typeface="Verdana"/>
              </a:rPr>
              <a:t>1. věta</a:t>
            </a:r>
            <a:r>
              <a:rPr b="1" lang="en-US" sz="54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5400"/>
            </a:br>
            <a:r>
              <a:rPr b="1" lang="en-US" sz="5400" spc="-1" strike="noStrike">
                <a:solidFill>
                  <a:srgbClr val="66ccff"/>
                </a:solidFill>
                <a:latin typeface="Verdana"/>
              </a:rPr>
              <a:t>Dvořákovy symfonie</a:t>
            </a:r>
            <a:r>
              <a:rPr b="1" lang="en-US" sz="54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Z Nového světa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403280" y="7316280"/>
            <a:ext cx="5640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0" y="981000"/>
            <a:ext cx="7632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2200"/>
              </a:spcBef>
              <a:buClr>
                <a:srgbClr val="66ff66"/>
              </a:buClr>
              <a:buFont typeface="Bitstream Ver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66ff66"/>
                </a:solidFill>
                <a:latin typeface="Bitstream Vera Sans"/>
              </a:rPr>
              <a:t>Hlavní téma</a:t>
            </a:r>
            <a:endParaRPr b="0" lang="en-US" sz="8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7d47d"/>
                </a:solidFill>
                <a:latin typeface="Bitstream Vera Sans"/>
              </a:rPr>
              <a:t>NAHORU</a:t>
            </a:r>
            <a:endParaRPr b="0" lang="en-US" sz="8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7d47d"/>
                </a:solidFill>
                <a:latin typeface="Bitstream Vera Sans"/>
              </a:rPr>
              <a:t>DOLŮ</a:t>
            </a:r>
            <a:endParaRPr b="0" lang="en-US" sz="8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0" y="765000"/>
            <a:ext cx="763272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66ff66"/>
                </a:solidFill>
                <a:latin typeface="Bitstream Vera Sans"/>
              </a:rPr>
              <a:t>2. Vedlejší téma</a:t>
            </a:r>
            <a:endParaRPr b="0" lang="en-US" sz="8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7d47d"/>
                </a:solidFill>
                <a:latin typeface="Bitstream Vera Sans"/>
              </a:rPr>
              <a:t>TANEČNÍ RÁZ</a:t>
            </a:r>
            <a:endParaRPr b="0" lang="en-US" sz="8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0" y="476280"/>
            <a:ext cx="7632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66ff66"/>
                </a:solidFill>
                <a:latin typeface="Bitstream Vera Sans"/>
              </a:rPr>
              <a:t>3. Závěrečné téma</a:t>
            </a:r>
            <a:endParaRPr b="0" lang="en-US" sz="8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7d47d"/>
                </a:solidFill>
                <a:latin typeface="Bitstream Vera Sans"/>
              </a:rPr>
              <a:t>DOLŮ</a:t>
            </a:r>
            <a:endParaRPr b="0" lang="en-US" sz="8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7d47d"/>
                </a:solidFill>
                <a:latin typeface="Bitstream Vera Sans"/>
              </a:rPr>
              <a:t>NAHORU</a:t>
            </a:r>
            <a:endParaRPr b="0" lang="en-US" sz="8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0" y="691920"/>
            <a:ext cx="763272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Bitstream Vera Sans"/>
              </a:rPr>
              <a:t>CODA</a:t>
            </a:r>
            <a:endParaRPr b="0" lang="en-US" sz="8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66ff66"/>
                </a:solidFill>
                <a:latin typeface="Bitstream Vera Sans"/>
              </a:rPr>
              <a:t>Závěr</a:t>
            </a:r>
            <a:endParaRPr b="0" lang="en-US" sz="8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66ff66"/>
                </a:solidFill>
                <a:latin typeface="Bitstream Vera Sans"/>
              </a:rPr>
              <a:t>/Dovětek/</a:t>
            </a:r>
            <a:endParaRPr b="0" lang="en-US" sz="8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0" y="189000"/>
            <a:ext cx="76327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Bitstream Vera Sans"/>
              </a:rPr>
              <a:t>INTRODUKCE</a:t>
            </a:r>
            <a:endParaRPr b="0" lang="en-US" sz="7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Bitstream Vera Sans"/>
              </a:rPr>
              <a:t>EXPOZICE</a:t>
            </a:r>
            <a:endParaRPr b="0" lang="en-US" sz="7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Bitstream Vera Sans"/>
              </a:rPr>
              <a:t>PROVEDENÍ </a:t>
            </a:r>
            <a:endParaRPr b="0" lang="en-US" sz="7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Bitstream Vera Sans"/>
              </a:rPr>
              <a:t>REPRÍZA</a:t>
            </a:r>
            <a:endParaRPr b="0" lang="en-US" sz="7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Bitstream Vera Sans"/>
              </a:rPr>
              <a:t>CODA</a:t>
            </a:r>
            <a:endParaRPr b="0" lang="en-US" sz="7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0" y="549360"/>
            <a:ext cx="76327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Bitstream Vera Sans"/>
              </a:rPr>
              <a:t>INTRODUKCE</a:t>
            </a:r>
            <a:endParaRPr b="0" lang="en-US" sz="8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66ff66"/>
                </a:solidFill>
                <a:latin typeface="Bitstream Vera Sans"/>
              </a:rPr>
              <a:t>Úvod do nálady skladby</a:t>
            </a:r>
            <a:endParaRPr b="0" lang="en-US" sz="8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0" y="549000"/>
            <a:ext cx="7632720" cy="58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Bitstream Vera Sans"/>
              </a:rPr>
              <a:t>EXPOZICE</a:t>
            </a:r>
            <a:endParaRPr b="0" lang="en-US" sz="8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9af7d"/>
                </a:solidFill>
                <a:latin typeface="Bitstream Vera Sans"/>
              </a:rPr>
              <a:t>Předvedení </a:t>
            </a:r>
            <a:endParaRPr b="0" lang="en-US" sz="8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9af7d"/>
                </a:solidFill>
                <a:latin typeface="Bitstream Vera Sans"/>
              </a:rPr>
              <a:t>3 témat /hudebních myšlenek/</a:t>
            </a:r>
            <a:endParaRPr b="0" lang="en-US" sz="8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0" y="981000"/>
            <a:ext cx="7632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2200"/>
              </a:spcBef>
              <a:buClr>
                <a:srgbClr val="66ff66"/>
              </a:buClr>
              <a:buFont typeface="Bitstream Ver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66ff66"/>
                </a:solidFill>
                <a:latin typeface="Bitstream Vera Sans"/>
              </a:rPr>
              <a:t>Hlavní téma</a:t>
            </a:r>
            <a:endParaRPr b="0" lang="en-US" sz="8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7d47d"/>
                </a:solidFill>
                <a:latin typeface="Bitstream Vera Sans"/>
              </a:rPr>
              <a:t>NAHORU</a:t>
            </a:r>
            <a:endParaRPr b="0" lang="en-US" sz="8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7d47d"/>
                </a:solidFill>
                <a:latin typeface="Bitstream Vera Sans"/>
              </a:rPr>
              <a:t>DOLŮ</a:t>
            </a:r>
            <a:endParaRPr b="0" lang="en-US" sz="8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0" y="765000"/>
            <a:ext cx="763272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66ff66"/>
                </a:solidFill>
                <a:latin typeface="Bitstream Vera Sans"/>
              </a:rPr>
              <a:t>2. Vedlejší téma</a:t>
            </a:r>
            <a:endParaRPr b="0" lang="en-US" sz="8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7d47d"/>
                </a:solidFill>
                <a:latin typeface="Bitstream Vera Sans"/>
              </a:rPr>
              <a:t>TANEČNÍ RÁZ</a:t>
            </a:r>
            <a:endParaRPr b="0" lang="en-US" sz="8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0" y="620280"/>
            <a:ext cx="7632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66ff66"/>
                </a:solidFill>
                <a:latin typeface="Bitstream Vera Sans"/>
              </a:rPr>
              <a:t>3. Závěrečné téma</a:t>
            </a:r>
            <a:endParaRPr b="0" lang="en-US" sz="8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7d47d"/>
                </a:solidFill>
                <a:latin typeface="Bitstream Vera Sans"/>
              </a:rPr>
              <a:t>DOLŮ</a:t>
            </a:r>
            <a:endParaRPr b="0" lang="en-US" sz="8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7d47d"/>
                </a:solidFill>
                <a:latin typeface="Bitstream Vera Sans"/>
              </a:rPr>
              <a:t>NAHORU</a:t>
            </a:r>
            <a:endParaRPr b="0" lang="en-US" sz="8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763272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Bitstream Vera Sans"/>
              </a:rPr>
              <a:t>PROVEDENÍ</a:t>
            </a:r>
            <a:endParaRPr b="0" lang="en-US" sz="8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79af7d"/>
                </a:solidFill>
                <a:latin typeface="Bitstream Vera Sans"/>
              </a:rPr>
              <a:t>Práce s tématy a jejich částmi</a:t>
            </a:r>
            <a:endParaRPr b="0" lang="en-US" sz="8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79af7d"/>
                </a:solidFill>
                <a:latin typeface="Bitstream Vera Sans"/>
              </a:rPr>
              <a:t>/boj/</a:t>
            </a:r>
            <a:endParaRPr b="0" lang="en-US" sz="8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0" y="620280"/>
            <a:ext cx="763272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Bitstream Vera Sans"/>
              </a:rPr>
              <a:t>REPRÍZA</a:t>
            </a:r>
            <a:endParaRPr b="0" lang="en-US" sz="9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79af7d"/>
                </a:solidFill>
                <a:latin typeface="Bitstream Vera Sans"/>
              </a:rPr>
              <a:t>Pozměněné opakování expozice</a:t>
            </a:r>
            <a:endParaRPr b="0" lang="en-US" sz="9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17:43:43Z</dcterms:created>
  <dc:creator>Eliška Lesniaková</dc:creator>
  <dc:description/>
  <dc:language>en-US</dc:language>
  <cp:lastModifiedBy>Eliška Lesniaková</cp:lastModifiedBy>
  <dcterms:modified xsi:type="dcterms:W3CDTF">2009-03-22T12:36:09Z</dcterms:modified>
  <cp:revision>4</cp:revision>
  <dc:subject/>
  <dc:title>Přísudek </dc:title>
</cp:coreProperties>
</file>