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01E-AABA-4DEE-ABED-3B9080E8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60A-AB57-4B29-B1BE-5DCB58A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BBE-928A-4315-A0E8-8CDDFEF0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915-F4CF-4FC7-8B7F-63B7FD9E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122-C304-48B5-AD8B-D7550BAA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1F4B-336F-4BDB-B7D8-9C1C08A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C68-017C-4518-941D-B560AAFE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CA30-B4DD-4AA9-A6D6-8F9327E7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226-3C5F-4614-A4AC-F6A2118F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BA36-9318-4E62-800F-998B1D8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4532-E34A-4EC0-A388-2CA74F3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265-1671-42C6-BC6A-B6E3E65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844-C5F7-4BC6-9D48-E800DBB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EE18-52DC-4387-BC99-1E4313CE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C47B-7B69-4D77-BB44-C2836B01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CF2-2721-4A9D-8750-DBF5B96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05F8-20C3-4918-9602-BC14743D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C8B-A6AB-4045-A1A8-6DFD6302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3DC-5054-47AF-914E-03CC147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E82-D140-42E1-97A2-DC0E2DC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817-1A18-41C3-A450-C16C424D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4AA-DE54-4D5E-A7D2-1C5FB26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D44-E546-4971-9A01-6C46841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370-90CE-4BA0-AE83-8F57DC9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74D-7E29-4395-AAFC-A053C32F91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22D-64F3-4F66-B6A2-FEB30292FB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6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Verdana"/>
              </a:rPr>
              <a:t>SLOVESNÉ TŘÍDY A VZORY</a:t>
            </a:r>
            <a:r>
              <a:rPr b="1" lang="en-US" sz="9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03280" y="731628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-541440" y="764640"/>
            <a:ext cx="8569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VI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KOUS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POLK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-360" y="907920"/>
            <a:ext cx="78836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POČ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STR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PÍSKN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BOJO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HRÁ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ŽÍ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907560"/>
            <a:ext cx="763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ŠÍ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DĚKO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ZRÁ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0" y="1052280"/>
            <a:ext cx="763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BĚŽ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TOUŽI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ZKOUŠ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763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RADI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BRUSLI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SMRDĚ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907560"/>
            <a:ext cx="763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VRÁŽ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ČÍS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BOŘI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-396720" y="836640"/>
            <a:ext cx="8208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ZPÍ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STŘÍH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NADÁ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-468360" y="1125360"/>
            <a:ext cx="856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KRMI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SLEDO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PRŠ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7632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-E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-N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 </a:t>
            </a: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-J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 </a:t>
            </a: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-Í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-Á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7632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1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NE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BE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MAŽ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PEČ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UMŘ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404640"/>
            <a:ext cx="7632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2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TISK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MI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ZAČ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0" y="66528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3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KRYJ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KUPUJ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0" y="620280"/>
            <a:ext cx="76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itstream Vera Sans"/>
              </a:rPr>
              <a:t>4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itstream Vera Sans"/>
              </a:rPr>
              <a:t>PROSÍ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itstream Vera Sans"/>
              </a:rPr>
              <a:t>TRPÍ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itstream Vera Sans"/>
              </a:rPr>
              <a:t>SÁZÍ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5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DĚLÁ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0" y="83628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TLOUCI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KLOUZ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OR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763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TÉCI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POZV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UJMOU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43:43Z</dcterms:created>
  <dc:creator>Eliška Lesniaková</dc:creator>
  <dc:description/>
  <dc:language>en-US</dc:language>
  <cp:lastModifiedBy>Eliška Lesniaková</cp:lastModifiedBy>
  <dcterms:modified xsi:type="dcterms:W3CDTF">2006-03-17T19:55:43Z</dcterms:modified>
  <cp:revision>3</cp:revision>
  <dc:subject/>
  <dc:title>Přísudek </dc:title>
</cp:coreProperties>
</file>