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19.jpeg" ContentType="image/jpeg"/>
  <Override PartName="/ppt/media/image1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06235-E76E-4E94-9C41-868E0C892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F92CE-595B-44B2-A8D0-2792CA06B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8ACA2-06A5-4BDA-AF7E-10B02DE2C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2F822-4B26-4137-BB63-78D0AFF05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0FD9E7-5528-4FDC-81F8-A7ACFBB68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F841FD-DB16-4F2C-8B14-0573EC851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1596EA-CC28-416C-9F59-73499B679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00AB06-D00D-43CF-B383-D91757F3A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04AEE7-8E48-4694-A40A-8FB98B571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74B6D8-3D27-4C69-8DD7-26309A629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E6D829-B599-43BF-B4F8-99B3B5F26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FD0D5-0C5B-4E1B-975C-71FD99BEF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EC37DC-70FA-4EC3-8B4F-85E66BEA6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D652E3-FEB8-4126-9A50-35D8503A7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024270-43A1-4CD4-9F4A-981749E11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2B60C4-4E8B-429A-A3CE-51003AB46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1B5C9E-EB90-4B2C-A99B-2F25AD519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7217A-73B2-43F0-8569-DA5E903BA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955BB-8A12-4426-8E16-3ED9CF040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F9266-F907-41E6-AF06-F63044067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EC22F-FFB2-4A2F-851F-6A3067D53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09860-0396-4EDE-8525-53E0097B8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12EB2-2FD3-42A5-A427-FDD554B68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64D06-BE17-46F3-BAF3-4B57B0978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47ACE-4953-48F7-A0C3-AE7321ED171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6E4F9-A6CD-4D6F-9373-CD3E16CA523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26920" y="764640"/>
            <a:ext cx="763128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ahoma"/>
              </a:rPr>
              <a:t>Projekt VODA /ve všech různých podobách a pohledech žáků/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4941360"/>
            <a:ext cx="64008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Tahoma"/>
              </a:rPr>
              <a:t>Prázdninové fotografie 2007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3639960" y="2730600"/>
            <a:ext cx="1864080" cy="13986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0" y="-1440"/>
            <a:ext cx="9144000" cy="68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457200" y="1905120"/>
            <a:ext cx="8229600" cy="41148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0" y="-1440"/>
            <a:ext cx="9144000" cy="68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0" y="-1440"/>
            <a:ext cx="9144000" cy="68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0" y="-1440"/>
            <a:ext cx="9144000" cy="68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0" y="-1440"/>
            <a:ext cx="9144000" cy="68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0" y="-1440"/>
            <a:ext cx="9144000" cy="68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0" y="-1440"/>
            <a:ext cx="9144000" cy="68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9152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cc"/>
                </a:solidFill>
                <a:latin typeface="Tahoma"/>
              </a:rPr>
              <a:t> </a:t>
            </a:r>
            <a:r>
              <a:rPr b="1" lang="en-US" sz="4800" spc="-1" strike="noStrike">
                <a:solidFill>
                  <a:srgbClr val="ffff00"/>
                </a:solidFill>
                <a:latin typeface="Tahoma"/>
              </a:rPr>
              <a:t>AUTOŘI SNÍMKŮ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0" y="1483920"/>
            <a:ext cx="91440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ccffff"/>
                </a:solidFill>
                <a:latin typeface="Tahoma"/>
              </a:rPr>
              <a:t> </a:t>
            </a:r>
            <a:r>
              <a:rPr b="1" lang="cs-CZ" sz="2400" spc="-1" strike="noStrike">
                <a:solidFill>
                  <a:srgbClr val="ffffff"/>
                </a:solidFill>
                <a:latin typeface="Tahoma"/>
              </a:rPr>
              <a:t>Helena Zahradníková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cs-CZ" sz="2400" spc="-1" strike="noStrike">
                <a:solidFill>
                  <a:srgbClr val="ffffff"/>
                </a:solidFill>
                <a:latin typeface="Tahoma"/>
              </a:rPr>
              <a:t>Lucie Fiedlerová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cs-CZ" sz="2400" spc="-1" strike="noStrike">
                <a:solidFill>
                  <a:srgbClr val="ffffff"/>
                </a:solidFill>
                <a:latin typeface="Tahoma"/>
              </a:rPr>
              <a:t>Veronika Vitnerová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cs-CZ" sz="2400" spc="-1" strike="noStrike">
                <a:solidFill>
                  <a:srgbClr val="ffffff"/>
                </a:solidFill>
                <a:latin typeface="Tahoma"/>
              </a:rPr>
              <a:t>Kristýna Derzsiová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cs-CZ" sz="2400" spc="-1" strike="noStrike">
                <a:solidFill>
                  <a:srgbClr val="ffffff"/>
                </a:solidFill>
                <a:latin typeface="Tahoma"/>
              </a:rPr>
              <a:t>Lenka Chuchmáková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cs-CZ" sz="2400" spc="-1" strike="noStrike">
                <a:solidFill>
                  <a:srgbClr val="ffffff"/>
                </a:solidFill>
                <a:latin typeface="Tahoma"/>
              </a:rPr>
              <a:t>Anna Pávková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cs-CZ" sz="2400" spc="-1" strike="noStrike">
                <a:solidFill>
                  <a:srgbClr val="ffffff"/>
                </a:solidFill>
                <a:latin typeface="Tahoma"/>
              </a:rPr>
              <a:t>Boleslav Kerouš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cs-CZ" sz="2400" spc="-1" strike="noStrike">
                <a:solidFill>
                  <a:srgbClr val="ffffff"/>
                </a:solidFill>
                <a:latin typeface="Tahoma"/>
              </a:rPr>
              <a:t>Kateřina Němcová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cs-CZ" sz="2400" spc="-1" strike="noStrike">
                <a:solidFill>
                  <a:srgbClr val="ffffff"/>
                </a:solidFill>
                <a:latin typeface="Tahoma"/>
              </a:rPr>
              <a:t>Kateřina Václavíková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cs-CZ" sz="2400" spc="-1" strike="noStrike">
                <a:solidFill>
                  <a:srgbClr val="ffffff"/>
                </a:solidFill>
                <a:latin typeface="Tahoma"/>
              </a:rPr>
              <a:t>Martin Dzik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cs-CZ" sz="2400" spc="-1" strike="noStrike">
                <a:solidFill>
                  <a:srgbClr val="ffffff"/>
                </a:solidFill>
                <a:latin typeface="Tahoma"/>
              </a:rPr>
              <a:t>Matěj Hužvár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9T15:41:02Z</dcterms:created>
  <dc:creator>Eliška Lesniaková</dc:creator>
  <dc:description/>
  <dc:language>en-US</dc:language>
  <cp:lastModifiedBy>Eliška Lesniaková</cp:lastModifiedBy>
  <dcterms:modified xsi:type="dcterms:W3CDTF">2007-09-23T11:42:07Z</dcterms:modified>
  <cp:revision>13</cp:revision>
  <dc:subject/>
  <dc:title>Projekt VODA /ve všech různých podobách a pohledech žáků/</dc:title>
</cp:coreProperties>
</file>